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9768-496F-42B5-8DEF-EDE12EE9A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20AD-8F27-42AA-AA5E-A208086A8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7FD1-5039-4F70-BA69-935B6A396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FE46-F027-4752-A5A9-5DF22A6C4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2624-07BC-47B4-939B-07C0FE010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BD06-B153-4EB7-AEED-3DA2E17BC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D7D4-AB9D-4BB7-9BD4-5DF6CEF8B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4A5F-8FC9-499F-82E1-6BD5ED69F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0686-EEA6-4B1F-AB5A-90B2E4E0C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7DE9-C42C-4881-922F-DE2443A36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0230-741B-4A8A-B5D9-874C0286E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11AC-C7B6-4388-8F49-4032D2DD2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EBE8C-8000-494B-86B5-159DE600573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2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9360" y="1295280"/>
            <a:ext cx="60861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e701"/>
                </a:solidFill>
                <a:latin typeface="Arial"/>
              </a:rPr>
              <a:t>Correcting for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e701"/>
                </a:solidFill>
                <a:latin typeface="Arial"/>
              </a:rPr>
              <a:t>Non-differential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e701"/>
                </a:solidFill>
                <a:latin typeface="Arial"/>
              </a:rPr>
              <a:t>Misclassificatiio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e701"/>
                </a:solidFill>
                <a:latin typeface="Arial"/>
              </a:rPr>
              <a:t>of Both Exposure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e701"/>
                </a:solidFill>
                <a:latin typeface="Arial"/>
              </a:rPr>
              <a:t>And Diseas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838080" y="533520"/>
            <a:ext cx="7620120" cy="26668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838080" y="3124080"/>
            <a:ext cx="7620120" cy="9907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6858000" y="3886200"/>
            <a:ext cx="152388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914400" y="4267080"/>
            <a:ext cx="74674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38080" y="3581280"/>
            <a:ext cx="7620120" cy="2210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838080" y="914400"/>
            <a:ext cx="76201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914400" y="380880"/>
            <a:ext cx="7620120" cy="2286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914400" y="2619360"/>
            <a:ext cx="7620120" cy="8096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914400" y="3505320"/>
            <a:ext cx="7620120" cy="30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38080" y="533520"/>
            <a:ext cx="7620120" cy="26668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838080" y="3200400"/>
            <a:ext cx="7620120" cy="762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838080" y="4038480"/>
            <a:ext cx="754380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762120" y="838080"/>
            <a:ext cx="76197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838080" y="457200"/>
            <a:ext cx="76964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6340320" cy="54864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7010280" y="2438280"/>
            <a:ext cx="1295640" cy="2286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7010280" y="457200"/>
            <a:ext cx="1295640" cy="1981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010280" y="4648320"/>
            <a:ext cx="1295640" cy="1295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838080" y="1371600"/>
            <a:ext cx="76201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609480" y="3809880"/>
            <a:ext cx="7620120" cy="15843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609480" y="1143000"/>
            <a:ext cx="76201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609480" y="1143000"/>
            <a:ext cx="7620120" cy="26668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609480" y="3809880"/>
            <a:ext cx="7620120" cy="7621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1219320" y="4800600"/>
            <a:ext cx="655308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7238880" cy="25876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762120" y="3352680"/>
            <a:ext cx="7238880" cy="2514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3276720" y="4267080"/>
            <a:ext cx="280656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609480" y="3336840"/>
            <a:ext cx="7925040" cy="3970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609480" y="685800"/>
            <a:ext cx="7925040" cy="26668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838080" y="4038480"/>
            <a:ext cx="762012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609480" y="1219320"/>
            <a:ext cx="7925040" cy="32763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609480" y="4390920"/>
            <a:ext cx="7925040" cy="7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762120" y="380880"/>
            <a:ext cx="7924680" cy="22860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762120" y="2562120"/>
            <a:ext cx="7924680" cy="7146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838080" y="3505320"/>
            <a:ext cx="77724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609480" y="990720"/>
            <a:ext cx="7925040" cy="35049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609480" y="4419720"/>
            <a:ext cx="792504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609480" y="685800"/>
            <a:ext cx="7925040" cy="26668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609480" y="3352680"/>
            <a:ext cx="7925040" cy="7621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685800" y="4191120"/>
            <a:ext cx="77724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609480" y="533520"/>
            <a:ext cx="80010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8229600" cy="50292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57200" y="5334120"/>
            <a:ext cx="822960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8458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80769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53416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09480" y="3200400"/>
            <a:ext cx="7925040" cy="29368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09480" y="609480"/>
            <a:ext cx="7925040" cy="25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45820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85800" y="1066680"/>
            <a:ext cx="78487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69608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754380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85800" y="1295280"/>
            <a:ext cx="762012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14400" y="4038480"/>
            <a:ext cx="7620120" cy="13716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914400" y="1066680"/>
            <a:ext cx="76201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838080" y="533520"/>
            <a:ext cx="7620120" cy="29718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838080" y="3505320"/>
            <a:ext cx="7620120" cy="914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838080" y="4572000"/>
            <a:ext cx="75438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7620120" cy="29718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914400" y="4191120"/>
            <a:ext cx="7620120" cy="9903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934320" y="4952880"/>
            <a:ext cx="152388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avid g kleinbaum</cp:lastModifiedBy>
  <dcterms:modified xsi:type="dcterms:W3CDTF">2003-11-10T15:11:11Z</dcterms:modified>
  <cp:revision>215</cp:revision>
  <dc:subject/>
  <dc:title>Slide 1</dc:title>
</cp:coreProperties>
</file>